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B92-6487-457E-99D8-E476F7CA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DE0-E19D-454F-B20E-96163817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816-1477-4664-A2D3-842E67D1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021-9E2B-4B76-AD63-6018CB0F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09CA-96A3-4203-93AB-FE62FE59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CA8-12CD-4DC3-9090-981B27D5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30F9-BE8E-4611-8657-2C9B5B6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B05-49FE-4ED5-B63C-09B53FE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F528-8898-40AE-AC22-BE6E162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D8C9-8ECD-4782-ACDD-0C7893B2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DA1F-8A19-4FB9-A5BA-4663D37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0AD-77B6-4559-886E-D0EBA95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E28B-907B-4226-A803-1901A2C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920E-8797-49B6-B5D8-293D7EC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4DA9-80FE-430C-B4AE-0E25797E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A14-32CC-41C0-ADC1-138CDF84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E00-A747-4CD5-B7BE-E7DB38AE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B2B-95D2-46EA-BF53-CC5EA194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6DD-34BB-4086-9E05-A8C1D266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141-8620-43FC-A8CD-2443A094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517-411A-460D-BF2A-8F408C6F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140-6578-4801-98A3-10341D9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8FB-189E-4ABD-B1C1-E10AE12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9F3-66A8-4E43-AF94-D300E53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06C-C194-4CD7-985F-9DAA7A6D46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52F-EB2C-4B38-8477-8FCD311232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 Clase 6NM(602) La fecha es el 10 de octubre del 2012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Propósito # 9: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repasamos para la Prueba del Repaso 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pia y responde en oraciones comple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d. sociable o tími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d. alto o baj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Son Uds. franceses o norteamerican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Son Uds. ricos o pob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sted una persona alegre o tris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99"/>
                </a:solidFill>
                <a:latin typeface="Verdana"/>
              </a:rPr>
              <a:t>I- </a:t>
            </a:r>
            <a:r>
              <a:rPr b="1" lang="es-ES_tradnl" sz="2400" spc="-1" strike="noStrike">
                <a:solidFill>
                  <a:srgbClr val="9999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el antónim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opposi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fíc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ua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vert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99"/>
                </a:solidFill>
                <a:latin typeface="Verdana"/>
              </a:rPr>
              <a:t>II-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leta co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amiga de Juan es de Boliv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muchachos son alumnos en ______ colegio San Sebasti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clases son aburridas y fác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casa es pequeñ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66236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III-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completa con al forma correcta del verbo S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padre _____ trabaj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padre _____ español y mi madre _____ norteamerica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hermano y yo ________ atl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s padres también _______ atl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sotros no _______ al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Yo _____ flaco, pero mi hermano _____ gor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s dos hermanas ______ buenas alumnas; ellas ______ muy intelig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________ tú? ¿________ alto o bajo, flaco o gor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ú _______ mi amigo. Tú ______ peruano, yo _______ norteameric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99"/>
                </a:solidFill>
                <a:latin typeface="Verdana"/>
              </a:rPr>
              <a:t>IV-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y and write the correct form of S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Él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ú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a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sotros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ted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os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a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tedes 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9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9:16:34Z</dcterms:created>
  <dc:creator>Helen Zumaeta</dc:creator>
  <dc:description/>
  <dc:language>en-US</dc:language>
  <cp:lastModifiedBy>Helen Zumaeta</cp:lastModifiedBy>
  <dcterms:modified xsi:type="dcterms:W3CDTF">2012-10-10T17:02:33Z</dcterms:modified>
  <cp:revision>4</cp:revision>
  <dc:subject/>
  <dc:title>Slide 1</dc:title>
</cp:coreProperties>
</file>